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704845"/>
        <c:axId val="96288170"/>
      </c:barChart>
      <c:catAx>
        <c:axId val="977048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88170"/>
        <c:crosses val="autoZero"/>
        <c:auto val="1"/>
        <c:lblAlgn val="ctr"/>
        <c:lblOffset val="100"/>
        <c:noMultiLvlLbl val="0"/>
      </c:catAx>
      <c:valAx>
        <c:axId val="962881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7048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AA6E-8050-442F-8948-667FE0210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CF7C-4A8A-4FAF-B97E-154134EF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1D97-FB44-4C4E-A956-EE3E41EBD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0F52-2A32-40AB-8FD5-778A3C2FB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4E67-6210-4E84-91EB-9686C68D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ED21-749A-4A56-84E8-83319ABCA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9959-5D22-4FAF-9645-3536CFF4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FEA7-A1A3-49B8-8DD2-B70DD029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1872-C52D-4684-98C2-7E404EE5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C2E-92FE-49D9-B8DC-FE4C67BD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CBF5-F869-4A24-AB2C-493A474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354A-ECEF-4477-A2E7-BDB876E7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98954-CF07-43B2-8941-0DF88AD433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