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80307"/>
        <c:axId val="18686427"/>
      </c:barChart>
      <c:catAx>
        <c:axId val="17280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86427"/>
        <c:crosses val="autoZero"/>
        <c:auto val="1"/>
        <c:lblAlgn val="ctr"/>
        <c:lblOffset val="100"/>
        <c:noMultiLvlLbl val="0"/>
      </c:catAx>
      <c:valAx>
        <c:axId val="18686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80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540B-F0EB-40E8-ACAA-35525537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762-FD70-4ADC-90C2-42BB97F0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142-A059-4415-8381-E22140FC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157-C498-49A1-8D3A-CBECE55F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A8A4-4CE3-4B3C-937E-FB610ECF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84D9-7170-474C-9FF9-9F38645F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F93C-5FAF-454E-ACEA-613F8E59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11E7-C51A-4CB5-8B8E-28C47678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3A0-934E-4473-BD0D-8B3A93E4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196E-A6A2-4536-88FD-2AB87B2A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9D97-7595-44BC-A757-28DE35CA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511E-8261-48EB-B089-DCF26171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F780B-26CA-40E6-9423-81A138F98F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