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40472"/>
        <c:axId val="30941487"/>
      </c:barChart>
      <c:catAx>
        <c:axId val="26540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41487"/>
        <c:crosses val="autoZero"/>
        <c:auto val="1"/>
        <c:lblAlgn val="ctr"/>
        <c:lblOffset val="100"/>
        <c:noMultiLvlLbl val="0"/>
      </c:catAx>
      <c:valAx>
        <c:axId val="30941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40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F0C-DE38-4BEE-B6F8-93418031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CBE-91DA-4AD2-BA8D-68B346B6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9F3-4058-40C4-8AC9-0EBBCCAB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02D-EC6B-4092-A1D0-A64B9321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E46-CF2A-4A8D-94D7-1B4A5F36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A54-BA8E-4914-B760-D2709B14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843-7714-4292-8D68-20938516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183-01ED-4E14-A5E2-5BD6D3E6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E5D-8F30-4F9B-98DC-E94726DC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A66-11FB-4BC1-B323-9680C44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869-51A4-4EFA-871C-C3C13A33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09B-0B11-4374-8087-517FA7B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A1405-79D5-4B31-8444-1B666C0BB6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