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0907"/>
        <c:axId val="32120819"/>
      </c:barChart>
      <c:catAx>
        <c:axId val="5370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20819"/>
        <c:crosses val="autoZero"/>
        <c:auto val="1"/>
        <c:lblAlgn val="ctr"/>
        <c:lblOffset val="100"/>
        <c:noMultiLvlLbl val="0"/>
      </c:catAx>
      <c:valAx>
        <c:axId val="32120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0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292-6EF7-4ABE-9632-4603F9BF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7C23-C939-41DA-912A-D23A945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EA9-5A99-4356-9D8F-72F4657C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8CE-9D36-4C8F-A748-05F6B02D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017-CC68-463D-AADD-D7A5758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0FC-2581-4C42-B4B7-44A3B777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E53-AFAF-4C69-8240-8A688BCD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C9BE-036F-460D-8B10-66C5004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C67-BB1C-470E-B49A-2A2DF83A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24FA-C5D9-4B49-84E8-68D8F030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C48-0655-4366-ADCD-ECDA4C1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741-0EDA-466A-B01F-8DE1B1D9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5E8BC-A4AB-42F0-AF0B-0A037FE657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