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810410"/>
        <c:axId val="38964796"/>
      </c:barChart>
      <c:catAx>
        <c:axId val="558104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964796"/>
        <c:crosses val="autoZero"/>
        <c:auto val="1"/>
        <c:lblAlgn val="ctr"/>
        <c:lblOffset val="100"/>
        <c:noMultiLvlLbl val="0"/>
      </c:catAx>
      <c:valAx>
        <c:axId val="389647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104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2160-4B41-401B-9AE8-03CABAD3C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251F-B740-4A03-BDF8-FEE17770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B35A-416D-40C1-B980-A26E9A984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B9EA-36BE-4DB4-9506-F82F16150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B850-18A4-4E0E-B5A8-6B69FD2E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C24A-8510-4421-B8DE-162EF9EF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BB92-B882-4B76-9248-59EE17F6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4523-D8FF-4E2C-8F70-6B5668AC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448E-11A8-4968-BAD8-8B3C1FDC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901A-2CC8-4AEA-8509-93C39467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E6A2-7D06-4CF3-A323-A04C5F52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79AF-8D10-4125-8718-825A5D46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8E8306-93E1-4ED2-8759-B6E54D4CCE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