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1731416"/>
        <c:axId val="81680415"/>
      </c:barChart>
      <c:catAx>
        <c:axId val="9173141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680415"/>
        <c:crosses val="autoZero"/>
        <c:auto val="1"/>
        <c:lblAlgn val="ctr"/>
        <c:lblOffset val="100"/>
        <c:noMultiLvlLbl val="0"/>
      </c:catAx>
      <c:valAx>
        <c:axId val="8168041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73141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F8C76-EE7C-4BB7-8AF3-EB5DB3224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4EC46-E87C-4CEE-9058-203663C8A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52325-F6E8-4CF7-9DB6-A93E93F9A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FF841-DF96-4D0E-B6D3-762EB4693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15F3B-D347-45D5-9240-56D9EAC95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3E646-E0E2-4708-9BBF-8D578FC3F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A28D0-0CA2-44ED-B4F4-61E60E2E5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FCE56-0F30-425F-811D-5A1225013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87A95-1B91-43AB-8D58-E2B0325F9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C396D-3635-476A-BADE-334468A7C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4F0A2-BE17-493D-B818-ECAB96DF8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61953-A156-4B6B-A395-D82CBD776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3195DE-DCE1-45D6-A532-B7DF1B92A3E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