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48550"/>
        <c:axId val="95748936"/>
      </c:barChart>
      <c:catAx>
        <c:axId val="7474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8936"/>
        <c:crosses val="autoZero"/>
        <c:auto val="1"/>
        <c:lblAlgn val="ctr"/>
        <c:lblOffset val="100"/>
        <c:noMultiLvlLbl val="0"/>
      </c:catAx>
      <c:valAx>
        <c:axId val="95748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4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482-DBDB-4237-8669-540291B4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67C-667C-4AC3-9B52-613B366C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A4E-5184-480B-8478-2FB2C838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425-6163-442A-8777-14A9939E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555-B40B-4DE3-93D6-0E32E57D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247-21FD-4821-889C-C01FC320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DE3-BF83-4BBA-9DE9-9B6C61D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448-8BFD-4BBE-96F9-51A77A8E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15E-0590-4CC8-87B5-EED7A732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42B-9253-4360-A57A-2BF928C3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E26-04A2-4E99-9C86-B8D2DD6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F8C-1CA9-4EAD-ACF2-1E094B6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0B059-DC87-4BF4-AC5A-41DBF178DC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