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33810"/>
        <c:axId val="3272458"/>
      </c:barChart>
      <c:catAx>
        <c:axId val="95033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2458"/>
        <c:crosses val="autoZero"/>
        <c:auto val="1"/>
        <c:lblAlgn val="ctr"/>
        <c:lblOffset val="100"/>
        <c:noMultiLvlLbl val="0"/>
      </c:catAx>
      <c:valAx>
        <c:axId val="3272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33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328-4D28-4EB0-AC55-71DF0845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CFA-4FC4-456E-AD44-A3A8500C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5FA-A432-4DF5-977A-DFA90CFD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F79-8E98-4DAC-B851-EC099F81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029-C4B1-48B7-B312-A4367D3F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8D8-2DB4-4101-AD73-097E0181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4E7-95C3-4288-9C62-64D16F85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FEB-CDDD-42CF-9EEB-5B85E95D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B97-0993-4DBC-AFF4-A8B94FAA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11F-F2EC-438F-B8AF-4E1014E1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416-116F-4796-BEC6-39F9A4DD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408-7EA2-4702-95DC-4B39B81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F7401-AADC-402A-AD22-FD32C57528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