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4567874"/>
        <c:axId val="58573915"/>
      </c:barChart>
      <c:catAx>
        <c:axId val="6456787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573915"/>
        <c:crosses val="autoZero"/>
        <c:auto val="1"/>
        <c:lblAlgn val="ctr"/>
        <c:lblOffset val="100"/>
        <c:noMultiLvlLbl val="0"/>
      </c:catAx>
      <c:valAx>
        <c:axId val="5857391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56787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BF885-FF5E-4DAC-B744-095B1C830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11CBD-5ADD-4047-B393-B02042646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DD006-06F9-4A85-A09F-C0BC814D2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10D1D-7C8E-447D-AE0F-237C659BD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F6E53-708D-4F01-9383-8A3754EA1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8F080-A1E1-45FC-A10D-0E8CDAD5D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133ED-E246-43C3-B428-D4ED8566D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8A548-1C03-43DB-B559-D4F82333D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8E32A-E215-48C2-A075-4E26731F2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BAEE2-F1F7-49AA-8E93-3CB092F16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5169A-259F-4269-8A5E-B9805F9CB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70FA8-0C03-4D0F-BCC7-BA0602F6A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DF9D19-E7E4-4B35-97DB-4552D39D6B3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