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15504"/>
        <c:axId val="73032984"/>
      </c:barChart>
      <c:catAx>
        <c:axId val="84115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32984"/>
        <c:crosses val="autoZero"/>
        <c:auto val="1"/>
        <c:lblAlgn val="ctr"/>
        <c:lblOffset val="100"/>
        <c:noMultiLvlLbl val="0"/>
      </c:catAx>
      <c:valAx>
        <c:axId val="73032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15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0123-0C76-4156-8450-092F4D5E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567-B8D8-49BC-859A-AB808DA1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9D7-611B-4467-80DC-6C52C107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78A-E1C2-4A83-A173-2200FDFE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B94-4910-4D81-94DD-9E08C1BA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CF3-065B-4D35-9D3A-2BDC0935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78F-9E7E-4850-B5EB-CD627F05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E5E-DBDD-4DB9-8185-B3B7E3DF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0B78-C32D-4B1D-BA59-8C8D179A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E6E-C40A-4D72-A9FE-3E83E498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24F-2865-4A47-A25F-623D340E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4925-C1AE-49D4-9B33-C38A7EA8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CB16D-8B7C-46EF-91CC-B9622E4231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