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27231"/>
        <c:axId val="33716981"/>
      </c:barChart>
      <c:catAx>
        <c:axId val="74627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16981"/>
        <c:crosses val="autoZero"/>
        <c:auto val="1"/>
        <c:lblAlgn val="ctr"/>
        <c:lblOffset val="100"/>
        <c:noMultiLvlLbl val="0"/>
      </c:catAx>
      <c:valAx>
        <c:axId val="33716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27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16D-BC99-452E-87B2-EBF0A1A2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A2F-C1BA-4F3F-A6D3-38E8F725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D0B-7ACE-4F7B-A190-41648D0B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1FD-0ED2-4731-8FE7-703D0FA4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D93-5A5A-4136-A439-9A237BBF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628-DF4E-4822-847D-61026322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7B1-67C6-4DE5-A05F-308A644E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B59-683A-4476-A3A9-A5D394EE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3B9-0AAB-4067-8548-14C29FFE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EC7-3ABC-4E3D-9A0D-C274CBE7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494-86E8-4336-8663-26F3C3E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196-DAB7-46E1-9D61-EF1850C1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D6745-437E-4525-A2FD-2C35341FBD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