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010435"/>
        <c:axId val="24288816"/>
      </c:barChart>
      <c:catAx>
        <c:axId val="660104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88816"/>
        <c:crosses val="autoZero"/>
        <c:auto val="1"/>
        <c:lblAlgn val="ctr"/>
        <c:lblOffset val="100"/>
        <c:noMultiLvlLbl val="0"/>
      </c:catAx>
      <c:valAx>
        <c:axId val="242888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104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5D7C-E898-4954-B600-23291AB76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CC18-E39A-4B16-B48F-FB5FE5BC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17C1-0EA3-4FA1-A29A-A7FF8EDDB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DEF4-A134-4157-9BB2-AEA3AE54F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DFFA-C246-4A4E-819C-68EA3B5A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877D-111E-4ED9-8EC9-259472C2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1AF3-57C9-4046-901D-A5318EE6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F700-ACD0-4171-8C2C-64CCA482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AAE7-AC4F-40A2-BAF9-FBC27A7D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B174-2F42-4AE8-93FF-CA2C2338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6C51-A6DE-45E4-B1AF-3872DD32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B3C7-77C4-44D6-B099-357A5AFF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36BA6-B4BF-4A73-80B7-835F5B7AE9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