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392132"/>
        <c:axId val="65239419"/>
      </c:barChart>
      <c:catAx>
        <c:axId val="273921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239419"/>
        <c:crosses val="autoZero"/>
        <c:auto val="1"/>
        <c:lblAlgn val="ctr"/>
        <c:lblOffset val="100"/>
        <c:noMultiLvlLbl val="0"/>
      </c:catAx>
      <c:valAx>
        <c:axId val="652394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921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9574-A701-41BA-B4A6-3CB7B5FBF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873F-B038-4F43-BDB6-EBBA80C5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BA2C-A13B-488A-B661-36CF86D62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4807-0B85-46DD-9E01-30ACB9EF0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5223-101F-4418-8071-7476EF80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251F-AE92-42A4-B313-83665E0A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901F-4F24-478C-82F4-DA59EE48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0CEE-3852-44BC-AF9E-FB70BA6A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E247-30A1-4202-BA52-5AE2596D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3A47-57CB-4F9D-A9F9-295B5F26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1FCF-CD67-4444-B034-CC38F41D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FEE4-5C7A-429C-B27B-1358B04F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A037F-AAC0-4365-97B1-4CDA5EE583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