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02973"/>
        <c:axId val="98871139"/>
      </c:barChart>
      <c:catAx>
        <c:axId val="33202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1139"/>
        <c:crosses val="autoZero"/>
        <c:auto val="1"/>
        <c:lblAlgn val="ctr"/>
        <c:lblOffset val="100"/>
        <c:noMultiLvlLbl val="0"/>
      </c:catAx>
      <c:valAx>
        <c:axId val="98871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2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8AE-A3E6-40F0-8528-35C86086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C01-7A09-4DD7-9661-FB5B8A11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A3F-C3A4-4E6F-8280-BB3F1E35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A8C-D5C5-4AC9-B4D1-1CD7592B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04D-22B7-413C-8E0F-09E5755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6F4-AF98-4B62-9C19-A677045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121-0ABF-4B8B-9855-C6B764BC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E12-4D8D-441E-86D0-4E57C32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48-A02B-4B23-B5BC-F345F5B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49A-C6FC-4FC0-8CF4-8F9C9C4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FDC-E0F2-42DA-980D-AC4040C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D63-3501-4617-A1C7-783C64A7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192E0-6809-4A30-BE18-EBFA1D988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