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40631"/>
        <c:axId val="32298390"/>
      </c:barChart>
      <c:catAx>
        <c:axId val="98240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98390"/>
        <c:crosses val="autoZero"/>
        <c:auto val="1"/>
        <c:lblAlgn val="ctr"/>
        <c:lblOffset val="100"/>
        <c:noMultiLvlLbl val="0"/>
      </c:catAx>
      <c:valAx>
        <c:axId val="32298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40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992-FECF-4FA2-847C-64C34786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33B-EE4E-4DA3-8147-3380ADA6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5FF-A6F6-4BFE-9704-DF093CDF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117-786F-43BC-AC22-4B74A6A0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A46-B4D9-4038-B21D-BB6B6C0F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623-661F-4B27-821B-D52C1484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302-CAAB-4D39-992D-7292E723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54F-FB7E-4CDB-8E15-07E61A7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313-FD12-49DE-965B-7507FA07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064-C417-4321-AE60-D1442999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FB0-1368-4CFA-A400-47E856D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BE2-53D7-41C4-B5A6-6166EFD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7D322-CFC1-46E0-A654-3944A2C2C4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