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2856"/>
        <c:axId val="66500093"/>
      </c:barChart>
      <c:catAx>
        <c:axId val="6362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00093"/>
        <c:crosses val="autoZero"/>
        <c:auto val="1"/>
        <c:lblAlgn val="ctr"/>
        <c:lblOffset val="100"/>
        <c:noMultiLvlLbl val="0"/>
      </c:catAx>
      <c:valAx>
        <c:axId val="66500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2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23D-ACE1-4AC5-B2C8-40BDF9D7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1C5-7408-4F79-AFC7-D13B0B11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74D-7CC6-46EC-B575-C30F2DBB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543-F40C-426D-874C-F7378C67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6DF-D69E-45E8-8E65-E22B27E0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6FE-6088-46B4-952D-328947AE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817-B881-4B44-99D7-A598FD56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61A-310F-4814-97BB-4006C200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422-9DC5-4E86-8D74-664096FB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F29-67FB-4089-99A6-8F348DB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112-9511-4D1D-A8FF-A98E399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02C-1A92-472D-88EB-85FB58F9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4FCE4-62AE-46E9-91BC-7E593E071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