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30306"/>
        <c:axId val="12202967"/>
      </c:barChart>
      <c:catAx>
        <c:axId val="18830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02967"/>
        <c:crosses val="autoZero"/>
        <c:auto val="1"/>
        <c:lblAlgn val="ctr"/>
        <c:lblOffset val="100"/>
        <c:noMultiLvlLbl val="0"/>
      </c:catAx>
      <c:valAx>
        <c:axId val="12202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30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55F-4760-4727-B50F-9AB27D7F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6D7-57D8-4032-B86E-85D0F1DB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546-3DD8-4F8D-978E-52F5CBDB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ED1-3D22-461E-9F6E-1C92C8EC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6E1-9716-431E-A0E7-D9CD7C97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88A-8513-4DAE-B719-7783C9DD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EF9-6D09-403B-B801-BEEABCCB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EA9-84A4-410A-A40C-DF37FA88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D95-B5BE-47AB-8577-30E9B5B9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61D-B0DF-4E15-906A-B22271E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626-8D26-4AED-898B-9C7827D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CDF-5735-4C76-817B-4C380FE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F68D9-3979-4D8A-AA7A-C95DBB7E8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